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372-BC8E-4C96-8389-57DAABDD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5D2-C6DA-47C1-8FE7-999994C8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FE0-9D2A-481D-9830-538441A9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BCE-0ADD-4D9F-BFF4-4FED06B9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7BCA-0A77-4898-952C-FD257E3F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E03-7E69-4505-A0CF-BFC6414B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375-AD9A-4D97-904E-E0CB446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764-B409-4596-BF2A-BDCD9394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E41-756C-40E8-9D64-365A8BC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F380-DCFB-45FD-9F99-692181B3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0288-CF14-4367-82A1-272DA87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54B-4C74-4AE5-B400-D343F079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AF83-24B3-433E-B86F-C8834CD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1D58-A28D-47DC-9167-F7D8405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FBEA-BDD2-4751-AB29-07046994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94BA-470A-4D1F-A45D-188EABE5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0AB9-D591-4C68-A123-D92853A0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CEC-AAB3-42A4-88D6-B5FABFF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820-C95F-4ED5-BAB2-4FB47F24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864-F695-4DD3-A6F0-B3BEECDA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33C-22B4-414A-945E-7AC70B89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F28-1089-4A21-9E81-3194387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B46-DE54-4FDD-B205-EB211DD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EF8-4ED2-4E92-8FBA-150AF30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3780-5463-413C-9C81-0C837873DF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B59-8C11-4AA6-A70A-8931BF5E17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lternative Energy:   Ch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olar to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ats water or molten salt (2) (salt stores heat longe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erates steam for electricity (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enefits of Solar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roblems of Solar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nsive to start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silicon Solar cells are cos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large initial capital inve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lots of land (des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32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nvironmental 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nvironmental Probl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conomic Problem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idal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fully develop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Effects on the environ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Machine f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big tide differ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iofuels (Ethanol from Cor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 gall of ethanol = energy of 28 gal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 uses lots of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urn coal to make it!!!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hipped in pipelines…trucked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sel machines harvest it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hart_jl_enviro2006_08_530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only 10% more energy than required to make i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tilizing fields, harvesting, distilling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 Cane is 7X more effici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e heavily tax Brazilian ethanol to prevent competition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ellulose Ethan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fuel 1/3 of all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vest waste stalks (no extra fertilizer to grow th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alk than ker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307800"/>
          <a:ext cx="7696080" cy="6397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v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-207360"/>
            <a:ext cx="8510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amount of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800080"/>
                </a:solidFill>
                <a:uFillTx/>
                <a:latin typeface="Calibri"/>
              </a:rPr>
              <a:t>High Heat Sour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Magma heats rocks and aquif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rill a well to bring hot water/steam to surfac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team turns turbine to make electricit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Hot Rock Geothermal Energy"/>
          <p:cNvPicPr/>
          <p:nvPr/>
        </p:nvPicPr>
        <p:blipFill>
          <a:blip r:embed="rId1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800080"/>
                </a:solidFill>
                <a:uFillTx/>
                <a:latin typeface="Times New Roman"/>
              </a:rPr>
              <a:t>Low heat sources (Groundwater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esent virtually everywhe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otovoltaic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To make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ght to electricity at the atom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a solid semiconductor material like silic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electri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irect 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ssive solar energ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 passively heating a house, wa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proper building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infosys</cp:lastModifiedBy>
  <dcterms:modified xsi:type="dcterms:W3CDTF">2017-01-04T21:18:52Z</dcterms:modified>
  <cp:revision>32</cp:revision>
  <dc:subject/>
  <dc:title>Slide 1</dc:title>
</cp:coreProperties>
</file>